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a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B38E-126B-4BB7-B85C-FB69968F0F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912-E13A-4390-90AF-E5DD43E34699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6348-72EC-45A4-9329-6828AC2F33C6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121-ADBC-4655-B559-674C1361158F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1F4F-D35D-4A1A-92BC-36BF17B82C85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C45E-FE88-436D-B1FA-8735B8EBB3E0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57CF-F730-4C5D-9866-124441D9ACD2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A907-E58F-4569-BF15-E48E0327D5A0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F9CC-7074-42E8-B82E-D958FEC320DC}" type="slidenum">
              <a:rPr b="0" lang="es-CL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8352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EA1C-2402-4FEE-A197-D30F9A1ED3BD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C753-D3DA-456E-B4AA-FA495B611720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59F-3F28-42E4-85B0-14EA6430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53F-4FEC-4202-A25A-23970C07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AAA-06AD-4511-97B8-68E1A123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AFF-291D-4000-BBDF-15DA4E23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582-4C5E-4D5B-9703-4ACC137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A14-AF00-45B0-8388-6029F448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125-BA7F-40DF-97F1-CC5F2A5B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B65-50B0-4EB5-A06D-3198C4D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6A9-F634-45DE-B491-2633760E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EB1-1712-4440-B37A-7B52D15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73A-8F3E-4D1D-B33B-5DD61711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E35-62E9-40F5-8066-ADE10F4D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a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5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5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5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9c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9c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9c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7CA9-A11E-4325-AC36-3BA1EEE4F08D}" type="slidenum">
              <a:rPr b="0" lang="en-US" sz="1200" spc="-1" strike="noStrike">
                <a:solidFill>
                  <a:srgbClr val="8999c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rsev.cl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rsev.cl/" TargetMode="External"/><Relationship Id="rId2" Type="http://schemas.openxmlformats.org/officeDocument/2006/relationships/image" Target="../media/image3.png"/><Relationship Id="rId3" Type="http://schemas.openxmlformats.org/officeDocument/2006/relationships/hyperlink" Target="mailto:contacto@sarsev.c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396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1360" y="5000400"/>
            <a:ext cx="641484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99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8999c0"/>
                </a:solidFill>
                <a:latin typeface="Calibri"/>
              </a:rPr>
              <a:t>Abril </a:t>
            </a:r>
            <a:r>
              <a:rPr b="1" lang="en-US" sz="3300" spc="-1" strike="noStrike">
                <a:solidFill>
                  <a:srgbClr val="8999c0"/>
                </a:solidFill>
                <a:latin typeface="Calibri"/>
              </a:rPr>
              <a:t> 2010</a:t>
            </a:r>
            <a:endParaRPr b="0" lang="en-US" sz="3300" spc="-1" strike="noStrike">
              <a:solidFill>
                <a:srgbClr val="0055a4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55a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28800" y="213840"/>
            <a:ext cx="33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a4"/>
                </a:solidFill>
                <a:latin typeface="Calibri"/>
              </a:rPr>
              <a:t>www.sarsev.cl</a:t>
            </a:r>
            <a:endParaRPr b="0" lang="en-US" sz="40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34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5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6" name="21 Conector recto"/>
          <p:cNvSpPr/>
          <p:nvPr/>
        </p:nvSpPr>
        <p:spPr>
          <a:xfrm>
            <a:off x="357120" y="107172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pic>
        <p:nvPicPr>
          <p:cNvPr id="137" name="3 Marcador de contenido" descr="SARSEV página.JPG"/>
          <p:cNvPicPr/>
          <p:nvPr/>
        </p:nvPicPr>
        <p:blipFill>
          <a:blip r:embed="rId2"/>
          <a:stretch/>
        </p:blipFill>
        <p:spPr>
          <a:xfrm>
            <a:off x="500040" y="1143000"/>
            <a:ext cx="8094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643040" y="-428760"/>
            <a:ext cx="5562720" cy="72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81439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55a4"/>
                </a:solidFill>
                <a:latin typeface="Calibri"/>
              </a:rPr>
              <a:t>“</a:t>
            </a:r>
            <a:r>
              <a:rPr b="1" i="1" lang="es-CL" sz="3200" spc="-1" strike="noStrike">
                <a:solidFill>
                  <a:srgbClr val="0055a4"/>
                </a:solidFill>
                <a:latin typeface="Calibri"/>
              </a:rPr>
              <a:t>AL SER PARTE DE SARSEV PROMOVERÁS LA SEGURIDAD OPERACIONAL DEL SAN, OPTIMIZARÁS TU DESEMPEÑO LABORAL Y MEJORARÁS TU CALIDAD DE VIDA” 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55a4"/>
                </a:solidFill>
                <a:latin typeface="Calibri"/>
              </a:rPr>
              <a:t>Para mayor información respecto al programa te invitamos a visitar la página </a:t>
            </a:r>
            <a:r>
              <a:rPr b="0" lang="es-CL" sz="2400" spc="-1" strike="noStrike" u="sng">
                <a:solidFill>
                  <a:srgbClr val="40a4ff"/>
                </a:solidFill>
                <a:uFillTx/>
                <a:latin typeface="Calibri"/>
                <a:hlinkClick r:id="rId1"/>
              </a:rPr>
              <a:t>www.sarsev.cl</a:t>
            </a: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41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42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43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55840" y="1916280"/>
            <a:ext cx="79653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55a4"/>
                </a:solidFill>
                <a:latin typeface="Arial"/>
              </a:rPr>
              <a:t>Para mayor información respecto al programa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55a4"/>
                </a:solidFill>
                <a:latin typeface="Arial"/>
              </a:rPr>
              <a:t> </a:t>
            </a:r>
            <a:r>
              <a:rPr b="1" i="1" lang="es-CL" sz="2800" spc="-1" strike="noStrike">
                <a:solidFill>
                  <a:srgbClr val="0055a4"/>
                </a:solidFill>
                <a:latin typeface="Arial"/>
              </a:rPr>
              <a:t>te invitamos a visitar la página </a:t>
            </a:r>
            <a:r>
              <a:rPr b="0" lang="es-CL" sz="2800" spc="-1" strike="noStrike" u="sng">
                <a:solidFill>
                  <a:srgbClr val="40a4ff"/>
                </a:solidFill>
                <a:uFillTx/>
                <a:latin typeface="Arial"/>
                <a:hlinkClick r:id="rId1"/>
              </a:rPr>
              <a:t>www.sarsev.cl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3429000"/>
            <a:ext cx="828036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Correo electrónico : </a:t>
            </a:r>
            <a:r>
              <a:rPr b="0" lang="en-US" sz="2800" spc="-1" strike="noStrike" u="sng">
                <a:solidFill>
                  <a:srgbClr val="40a4ff"/>
                </a:solidFill>
                <a:uFillTx/>
                <a:latin typeface="Arial"/>
                <a:hlinkClick r:id="rId3"/>
              </a:rPr>
              <a:t>contacto@sarsev.cl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Teléfonos : 562 – 4392766 ; 562 -4392485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Dirección : Lorena 1212 , Providencia , RM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Santiago Chile 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55a4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9160" y="285480"/>
            <a:ext cx="35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440" y="1143000"/>
            <a:ext cx="7283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MARCO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DEFINICIÓN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CARACTERÍSTICAS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ESTRUCTURA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PROCESO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6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54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55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29200" y="285480"/>
            <a:ext cx="35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MARCO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114264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Manual de Gestión de la Seguridad Operacional OACI (Doc. 9859). 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Protocolo DGAC - Círculo de Pilotos de Chile, 2006.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Compromiso en USOAP (Mayo 2008). 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55a4"/>
                </a:solidFill>
                <a:latin typeface="Calibri"/>
              </a:rPr>
              <a:t>Plan Estratégico de la DGAC 2008 – 2012</a:t>
            </a: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, Anexos “G” “Política de Seguridad Operacional” y “J” “Política de Riesgos” (Resolución Exenta Nº 0972, Mayo 2009). 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55a4"/>
                </a:solidFill>
                <a:latin typeface="Calibri"/>
              </a:rPr>
              <a:t>Programa de Seguridad Operacional del Estado</a:t>
            </a: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 (SSP, State Safety Program) contempla la necesidad de implementar un Modelo de Gestión.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6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0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1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14880" y="28548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¿QUÉ ES SARSEV?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6760" y="10000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SARSEV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 es un programa de reporte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voluntario, anónimo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 y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no punitivo 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de sucesos que ponen en riesgo la seguridad operacional, cuya información se utiliza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sólo con fines de prevención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,</a:t>
            </a:r>
            <a:r>
              <a:rPr b="0" i="1" lang="en-US" sz="3000" spc="-1" strike="noStrike">
                <a:solidFill>
                  <a:srgbClr val="0055a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sin ánimo de buscar faltas o responsabilidades. </a:t>
            </a: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Se sustenta legalmente en la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DAN 13 01 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(Normativa en Estudio).</a:t>
            </a: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65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6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7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00680" y="28548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5a4"/>
                </a:solidFill>
                <a:latin typeface="Calibri"/>
              </a:rPr>
              <a:t>¿QUÉ ES SARSEV? (2)</a:t>
            </a:r>
            <a:endParaRPr b="0" lang="en-US" sz="40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0000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La información obtenida a través de SARSEV permitirá: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Identificar peligros y definir un mapa de riesgos operacionales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Extraer tendencias e indicadores de seguridad operacional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Sugerir a la Autoridad Aeronáutica medidas preventivas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Dar apoyo a investigaciones y estudios en materia de aviación, específicamente en la investigación de factores humanos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Promover la participación de los usuarios en el proceso de mejora de la seguridad operacional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Entregar retroalimentación a los usuarios a través de publicaciones periódicas y la divulgación de errores humanos y condiciones inseguras del sistema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7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71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2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3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14840" y="285840"/>
            <a:ext cx="5643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CARACTERÍSTICAS</a:t>
            </a:r>
            <a:r>
              <a:rPr b="0" lang="en-US" sz="5400" spc="-1" strike="noStrike">
                <a:solidFill>
                  <a:srgbClr val="0055a4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Voluntario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Anónimo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No punitivo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“Just Culture” Tolera errores involuntarios y equivocaciones pero no transgresiones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Delimitado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No se reporta: delitos, infracciones, a</a:t>
            </a:r>
            <a:r>
              <a:rPr b="0" lang="es-ES" sz="2000" spc="-1" strike="noStrike">
                <a:solidFill>
                  <a:srgbClr val="0055a4"/>
                </a:solidFill>
                <a:latin typeface="Verdana"/>
              </a:rPr>
              <a:t>ccidentes, incidentes graves, conflictos laborales o gremiales, información falsa o malintencionada, disputas comerciales o legales, actos terroristas y fenómenos anómalos.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Inclusivo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T</a:t>
            </a:r>
            <a:r>
              <a:rPr b="0" lang="es-ES" sz="2000" spc="-1" strike="noStrike">
                <a:solidFill>
                  <a:srgbClr val="0055a4"/>
                </a:solidFill>
                <a:latin typeface="Verdana"/>
              </a:rPr>
              <a:t>oda persona que se desempeñe técnica o profesionalmente en el SAN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Proactivo. 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Detecta condiciones latentes (cadena de errores)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Confiable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Accesible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Facilidad de notificación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77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8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9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5 Marcador de contenido" descr="iceberg_pinguinos_personaje.jpg"/>
          <p:cNvPicPr/>
          <p:nvPr/>
        </p:nvPicPr>
        <p:blipFill>
          <a:blip r:embed="rId1"/>
          <a:stretch/>
        </p:blipFill>
        <p:spPr>
          <a:xfrm>
            <a:off x="857160" y="1143000"/>
            <a:ext cx="4071960" cy="5232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</p:pic>
      <p:sp>
        <p:nvSpPr>
          <p:cNvPr id="81" name=""/>
          <p:cNvSpPr txBox="1"/>
          <p:nvPr/>
        </p:nvSpPr>
        <p:spPr>
          <a:xfrm>
            <a:off x="5572080" y="1071720"/>
            <a:ext cx="2928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gestión de la seguridad es un esfuerzo desperdiciado si la identificación de los peligros se limita solamente a aquellos raros eventos donde hay lesiones serias o daños significativos.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</p:txBody>
      </p:sp>
      <p:grpSp>
        <p:nvGrpSpPr>
          <p:cNvPr id="82" name="Group 77"/>
          <p:cNvGrpSpPr/>
          <p:nvPr/>
        </p:nvGrpSpPr>
        <p:grpSpPr>
          <a:xfrm>
            <a:off x="1071720" y="2000160"/>
            <a:ext cx="5625720" cy="4438800"/>
            <a:chOff x="1071720" y="2000160"/>
            <a:chExt cx="5625720" cy="4438800"/>
          </a:xfrm>
        </p:grpSpPr>
        <p:grpSp>
          <p:nvGrpSpPr>
            <p:cNvPr id="83" name="Group 72"/>
            <p:cNvGrpSpPr/>
            <p:nvPr/>
          </p:nvGrpSpPr>
          <p:grpSpPr>
            <a:xfrm>
              <a:off x="1071720" y="2000160"/>
              <a:ext cx="4216320" cy="3511440"/>
              <a:chOff x="1071720" y="2000160"/>
              <a:chExt cx="4216320" cy="3511440"/>
            </a:xfrm>
          </p:grpSpPr>
          <p:sp>
            <p:nvSpPr>
              <p:cNvPr id="84" name="Line 5"/>
              <p:cNvSpPr/>
              <p:nvPr/>
            </p:nvSpPr>
            <p:spPr>
              <a:xfrm>
                <a:off x="1071720" y="2571480"/>
                <a:ext cx="3967200" cy="37800"/>
              </a:xfrm>
              <a:prstGeom prst="line">
                <a:avLst/>
              </a:prstGeom>
              <a:ln w="38160">
                <a:solidFill>
                  <a:srgbClr val="0055a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5" name="Text Box 6"/>
              <p:cNvSpPr/>
              <p:nvPr/>
            </p:nvSpPr>
            <p:spPr>
              <a:xfrm>
                <a:off x="2625120" y="20001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 – 5</a:t>
                </a:r>
                <a:endParaRPr b="0" lang="en-US" sz="24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6" name="Line 8"/>
              <p:cNvSpPr/>
              <p:nvPr/>
            </p:nvSpPr>
            <p:spPr>
              <a:xfrm flipV="1">
                <a:off x="1071720" y="3428640"/>
                <a:ext cx="4216320" cy="45720"/>
              </a:xfrm>
              <a:prstGeom prst="line">
                <a:avLst/>
              </a:prstGeom>
              <a:ln w="38160">
                <a:solidFill>
                  <a:srgbClr val="0055a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7" name="Text Box 9"/>
              <p:cNvSpPr/>
              <p:nvPr/>
            </p:nvSpPr>
            <p:spPr>
              <a:xfrm>
                <a:off x="2363400" y="300024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Black"/>
                    <a:ea typeface="Arial"/>
                  </a:rPr>
                  <a:t>30 – 100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8" name="Text Box 10"/>
              <p:cNvSpPr/>
              <p:nvPr/>
            </p:nvSpPr>
            <p:spPr>
              <a:xfrm>
                <a:off x="2014560" y="2643120"/>
                <a:ext cx="170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Narrow"/>
                    <a:ea typeface="Arial"/>
                  </a:rPr>
                  <a:t>Incidentes serios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9" name="Line 11"/>
              <p:cNvSpPr/>
              <p:nvPr/>
            </p:nvSpPr>
            <p:spPr>
              <a:xfrm>
                <a:off x="1143000" y="4500720"/>
                <a:ext cx="3942000" cy="0"/>
              </a:xfrm>
              <a:prstGeom prst="line">
                <a:avLst/>
              </a:prstGeom>
              <a:ln w="38160">
                <a:solidFill>
                  <a:srgbClr val="0055a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0" name="Text Box 12"/>
              <p:cNvSpPr/>
              <p:nvPr/>
            </p:nvSpPr>
            <p:spPr>
              <a:xfrm>
                <a:off x="2314800" y="4071960"/>
                <a:ext cx="133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Black"/>
                    <a:ea typeface="Arial"/>
                  </a:rPr>
                  <a:t>100 – 1000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2437920" y="3571560"/>
                <a:ext cx="110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Narrow"/>
                    <a:ea typeface="Arial"/>
                  </a:rPr>
                  <a:t>Incidentes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2183040" y="5143320"/>
                <a:ext cx="14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Black"/>
                    <a:ea typeface="Arial"/>
                  </a:rPr>
                  <a:t>1000 – 4000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3" name="Text Box 15"/>
              <p:cNvSpPr/>
              <p:nvPr/>
            </p:nvSpPr>
            <p:spPr>
              <a:xfrm>
                <a:off x="1944360" y="4714920"/>
                <a:ext cx="205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Narrow"/>
                    <a:ea typeface="Arial"/>
                  </a:rPr>
                  <a:t>Condiciones latentes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75"/>
            <p:cNvGrpSpPr/>
            <p:nvPr/>
          </p:nvGrpSpPr>
          <p:grpSpPr>
            <a:xfrm>
              <a:off x="1500120" y="4571640"/>
              <a:ext cx="5197320" cy="1867320"/>
              <a:chOff x="1500120" y="4571640"/>
              <a:chExt cx="5197320" cy="1867320"/>
            </a:xfrm>
          </p:grpSpPr>
          <p:sp>
            <p:nvSpPr>
              <p:cNvPr id="95" name="Oval 155"/>
              <p:cNvSpPr/>
              <p:nvPr/>
            </p:nvSpPr>
            <p:spPr>
              <a:xfrm>
                <a:off x="1500120" y="4571640"/>
                <a:ext cx="3078360" cy="1071720"/>
              </a:xfrm>
              <a:prstGeom prst="ellipse">
                <a:avLst/>
              </a:prstGeom>
              <a:noFill/>
              <a:ln w="38160">
                <a:solidFill>
                  <a:srgbClr val="ffe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6" name="Text Box 217"/>
              <p:cNvSpPr/>
              <p:nvPr/>
            </p:nvSpPr>
            <p:spPr>
              <a:xfrm>
                <a:off x="5218200" y="5857560"/>
                <a:ext cx="1479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55a4"/>
                    </a:solidFill>
                    <a:latin typeface="Calibri"/>
                    <a:ea typeface="Arial"/>
                  </a:rPr>
                  <a:t>SARSEV</a:t>
                </a:r>
                <a:endParaRPr b="0" lang="en-US" sz="32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7" name="Line 218"/>
              <p:cNvSpPr/>
              <p:nvPr/>
            </p:nvSpPr>
            <p:spPr>
              <a:xfrm flipH="1" flipV="1">
                <a:off x="3786480" y="5571360"/>
                <a:ext cx="1357200" cy="571320"/>
              </a:xfrm>
              <a:prstGeom prst="line">
                <a:avLst/>
              </a:prstGeom>
              <a:ln w="57240">
                <a:solidFill>
                  <a:srgbClr val="ffe8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 Box 7"/>
          <p:cNvSpPr/>
          <p:nvPr/>
        </p:nvSpPr>
        <p:spPr>
          <a:xfrm>
            <a:off x="2259720" y="148428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Accidentes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6920" y="6380280"/>
            <a:ext cx="169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55a4"/>
                </a:solidFill>
                <a:latin typeface="Arial"/>
              </a:rPr>
              <a:t>Fuente : Curso SMS , OACI 2009</a:t>
            </a:r>
            <a:endParaRPr b="0" lang="en-US" sz="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276720" y="76320"/>
            <a:ext cx="5643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ARACTERÍSTICAS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14960" y="49968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ESTRUCTURA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1071360"/>
            <a:ext cx="8001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55a4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55a4"/>
                </a:solidFill>
                <a:latin typeface="Verdana"/>
              </a:rPr>
              <a:t>Equipo SARSEV</a:t>
            </a:r>
            <a:r>
              <a:rPr b="0" lang="es-ES" sz="2400" spc="-1" strike="noStrike">
                <a:solidFill>
                  <a:srgbClr val="0055a4"/>
                </a:solidFill>
                <a:latin typeface="Verdana"/>
              </a:rPr>
              <a:t>: </a:t>
            </a:r>
            <a:r>
              <a:rPr b="0" lang="es-ES" sz="2400" spc="-1" strike="noStrike" u="sng">
                <a:solidFill>
                  <a:srgbClr val="0055a4"/>
                </a:solidFill>
                <a:uFillTx/>
                <a:latin typeface="Calibri"/>
              </a:rPr>
              <a:t>g</a:t>
            </a:r>
            <a:r>
              <a:rPr b="0" lang="es-ES" sz="2400" spc="-1" strike="noStrike">
                <a:solidFill>
                  <a:srgbClr val="0055a4"/>
                </a:solidFill>
                <a:latin typeface="Calibri"/>
              </a:rPr>
              <a:t>rupo multidisciplinario de profesionales que se encarga de recibir, analizar y presentar al Comité SARSEV informes de los sucesos reportados, administrar la Base de Datos SARSEV y dar a conocer las conclusiones de sus análisis.</a:t>
            </a:r>
            <a:r>
              <a:rPr b="1" lang="es-ES" sz="2400" spc="-1" strike="noStrike" u="sng">
                <a:solidFill>
                  <a:srgbClr val="0055a4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55a4"/>
                </a:solidFill>
                <a:latin typeface="Verdana"/>
              </a:rPr>
              <a:t> </a:t>
            </a:r>
            <a:r>
              <a:rPr b="1" lang="es-MX" sz="2400" spc="-1" strike="noStrike">
                <a:solidFill>
                  <a:srgbClr val="0055a4"/>
                </a:solidFill>
                <a:latin typeface="Verdana"/>
              </a:rPr>
              <a:t>Comité SARSEV</a:t>
            </a:r>
            <a:r>
              <a:rPr b="0" lang="es-MX" sz="2400" spc="-1" strike="noStrike">
                <a:solidFill>
                  <a:srgbClr val="0055a4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55a4"/>
                </a:solidFill>
                <a:latin typeface="Calibri"/>
              </a:rPr>
              <a:t>equipo conformado por representantes de diferentes usuarios del sistema aeronáutico nacional y que se reúne trimestralmente para</a:t>
            </a:r>
            <a:r>
              <a:rPr b="1" lang="es-ES" sz="2400" spc="-1" strike="noStrike">
                <a:solidFill>
                  <a:srgbClr val="0055a4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55a4"/>
                </a:solidFill>
                <a:latin typeface="Calibri"/>
              </a:rPr>
              <a:t>revisar y emitir opinión sobre los análisis e informes finales presentados por el Equipo SARSEV y, de acuerdo con ellos, sugerir medidas preventivas. </a:t>
            </a: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285840" y="14292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04" name="5 Conector recto"/>
          <p:cNvSpPr/>
          <p:nvPr/>
        </p:nvSpPr>
        <p:spPr>
          <a:xfrm>
            <a:off x="500040" y="600084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05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06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3680" y="49968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ESTRUCTURA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10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2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997360"/>
            <a:ext cx="1871640" cy="914400"/>
          </a:xfrm>
          <a:prstGeom prst="roundRect">
            <a:avLst>
              <a:gd name="adj" fmla="val 16667"/>
            </a:avLst>
          </a:prstGeom>
          <a:solidFill>
            <a:srgbClr val="85c5ff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GAC</a:t>
            </a:r>
            <a:endParaRPr b="0" lang="en-US" sz="2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68640"/>
            <a:ext cx="1728720" cy="77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ARSEV</a:t>
            </a:r>
            <a:endParaRPr b="0" lang="en-US" sz="2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112536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erolíneas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170028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OPA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285264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Fedach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27664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írculo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Pilotos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400536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lubes 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éreos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342900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chhel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25132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65300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legio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3357720"/>
            <a:ext cx="976320" cy="269640"/>
          </a:xfrm>
          <a:prstGeom prst="rightArrow">
            <a:avLst>
              <a:gd name="adj1" fmla="val 50000"/>
              <a:gd name="adj2" fmla="val 90521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003640" y="1484280"/>
            <a:ext cx="1656000" cy="194472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03640" y="1916280"/>
            <a:ext cx="1656000" cy="151272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03640" y="2565000"/>
            <a:ext cx="1656000" cy="86364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03640" y="3141720"/>
            <a:ext cx="1656000" cy="28728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3429000"/>
            <a:ext cx="1656000" cy="21600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3429000"/>
            <a:ext cx="1656000" cy="86364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429000"/>
            <a:ext cx="1656000" cy="136836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429000"/>
            <a:ext cx="1656000" cy="208764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27:03Z</dcterms:created>
  <dc:creator>Valeria Letelier</dc:creator>
  <dc:description/>
  <dc:language>en-US</dc:language>
  <cp:lastModifiedBy>mmorchio</cp:lastModifiedBy>
  <dcterms:modified xsi:type="dcterms:W3CDTF">2010-05-20T20:03:30Z</dcterms:modified>
  <cp:revision>27</cp:revision>
  <dc:subject/>
  <dc:title>Sistema Anónimo de Reportes de Seguridad en Vuelo (SARSEV)</dc:title>
</cp:coreProperties>
</file>