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media/image29.jpeg" ContentType="image/jpeg"/>
  <Override PartName="/ppt/media/image9.png" ContentType="image/png"/>
  <Override PartName="/ppt/media/image17.wmf" ContentType="image/x-wmf"/>
  <Override PartName="/ppt/media/image6.wmf" ContentType="image/x-wmf"/>
  <Override PartName="/ppt/media/image7.jpeg" ContentType="image/jpeg"/>
  <Override PartName="/ppt/media/image28.jpeg" ContentType="image/jpeg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E3F-B0F7-44E5-B4F0-C02BBC7BA2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DA68-A7F2-4CA4-998A-176B40E298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3D8-F569-4203-8DB7-BEC164A578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7B8F-B397-4C20-A7FD-C3CFF86C7D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4" name=""/>
          <p:cNvSpPr/>
          <p:nvPr/>
        </p:nvSpPr>
        <p:spPr>
          <a:xfrm>
            <a:off x="185760" y="4343400"/>
            <a:ext cx="65008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urier New"/>
              </a:rPr>
              <a:t>It is a difficult task to study the “latent” conditions that exist in squadron supervision or within aircrew that “set the stage” for a Class A Flight Mishap.  It is not unlike a Rubik’s Cube in trying to discern what is known and unforeseen on a supervisory level and/or what is an accidental or conscious act on the part of the aircrew involved. NAVSAFECEN’s adaptation of the Model of Unsafe Operations Taxonomy (Shappell &amp; Wiegmann, 1995), depicts the relationship between supervisory and aircrew causal factors that contribute to flight mishaps.  This effort represents a new approach in analyzing human error in Naval Aviation. It provides for better understanding of the layers of human factors involved in a Class A flight mishap.  Further, this understanding can facilitate the identification of potential intervention strategies. (</a:t>
            </a:r>
            <a:r>
              <a:rPr b="0" lang="es-ES" sz="1200" spc="-1" strike="noStrike" u="sng">
                <a:solidFill>
                  <a:srgbClr val="ffffff"/>
                </a:solidFill>
                <a:uFillTx/>
                <a:latin typeface="Courier New"/>
              </a:rPr>
              <a:t>Note</a:t>
            </a:r>
            <a:r>
              <a:rPr b="0" lang="es-ES" sz="1200" spc="-1" strike="noStrike">
                <a:solidFill>
                  <a:srgbClr val="ffffff"/>
                </a:solidFill>
                <a:latin typeface="Courier New"/>
              </a:rPr>
              <a:t>:  this effort is sponsored by the Naval Medical Research &amp; Development Command, National Naval Medical Center, Bethesda, MD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urier New"/>
              </a:rPr>
              <a:t>The next three slides discribe the Reason’s model and the Naval Safety Center application to the aviation safety progra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2FB0-4934-44F6-AC39-4D93F44ED8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BFA4-6155-48B0-8F42-DC907DF430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819F-9A49-45B1-8FE0-68B4711DA5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E79B-7652-4393-AAE1-066E634123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F0C-F632-4A5C-8A22-599BC276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803-B60A-4EB1-B8B6-B5B52F00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BBD-0EC5-4EE7-A650-B0661C94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9AF-B31B-4E24-B895-DA069CCB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CB23-8A78-4D69-A9CB-46A0F288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B48D-DB39-4BAA-9701-36D2190A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95DF-765C-42DA-91E1-03FE3892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664A-F336-40FF-A696-59D06631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12E3-725B-41F1-96CE-CBE11878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9103-259A-40A3-A380-9DDE819D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4763-7790-4165-A46E-38C2464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C61-4E1D-4653-9202-E0FB2B19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9140-8420-49C7-842A-E5275C9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7D79-D94B-49AB-8E51-D755BD01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12BD-D5F2-436B-B8A8-D9551CBF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3847-D8F5-4ED8-82C8-325F3964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51E7-30B1-468F-9495-DE925B11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56D-1366-4456-9E29-DF948484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AA3-6C0E-43F0-9969-A72241D6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5FB-FC21-4CBC-BF56-E3881794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75A-582A-4785-A048-966F2CBA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91A-8F9B-4E5D-A2CD-53C4B61B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C61-ADA3-4088-A745-9D9C7782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485-DC3C-45BC-8864-F8C69F2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EBCF-59E1-4B6A-A908-F6C73B4CB443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525600" cy="69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A03-E6D4-4F4B-A262-826A7E126E88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5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"/>
              </a:rPr>
              <a:t>Seguridad Aérea en  la Cabin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0000"/>
                </a:solidFill>
                <a:latin typeface="Verdana"/>
              </a:rPr>
              <a:t>“ </a:t>
            </a:r>
            <a:r>
              <a:rPr b="1" i="1" lang="es-MX" sz="4000" spc="-1" strike="noStrike">
                <a:solidFill>
                  <a:srgbClr val="ff0000"/>
                </a:solidFill>
                <a:latin typeface="Verdana"/>
              </a:rPr>
              <a:t>Los Factores Humanos ”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6023520" y="5711760"/>
            <a:ext cx="25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CLAUDIO  PANDOLFI, MB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DEPTO  PREVA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332000" y="3875040"/>
            <a:ext cx="307476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0760" y="281880"/>
            <a:ext cx="7242480" cy="5763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CRM de  VI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600360" y="5251320"/>
          <a:ext cx="19368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0360" y="5251320"/>
                    <a:ext cx="19368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7502400" y="1015920"/>
          <a:ext cx="1000080" cy="127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02400" y="1015920"/>
                    <a:ext cx="1000080" cy="1270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7467480" y="3124080"/>
          <a:ext cx="1193760" cy="1105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67480" y="3124080"/>
                    <a:ext cx="119376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886200" y="3048120"/>
          <a:ext cx="1297080" cy="121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6200" y="3048120"/>
                    <a:ext cx="12970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11200" y="2990880"/>
          <a:ext cx="1251000" cy="1252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1200" y="2990880"/>
                    <a:ext cx="125100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657600" y="1143000"/>
          <a:ext cx="1663560" cy="1239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57600" y="1143000"/>
                    <a:ext cx="1663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824040" y="1049400"/>
          <a:ext cx="639720" cy="1311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4040" y="1049400"/>
                    <a:ext cx="63972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66760" y="5067360"/>
          <a:ext cx="1765080" cy="1023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66760" y="5067360"/>
                    <a:ext cx="17650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235080" y="2233440"/>
            <a:ext cx="1761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Usuario de aeron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19360" y="2243160"/>
            <a:ext cx="2028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Uso del 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254720" y="2239920"/>
            <a:ext cx="1514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l personal de vue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4114800"/>
            <a:ext cx="1685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ersonal A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32720" y="6039000"/>
            <a:ext cx="2181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l personal de manten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633840" y="624672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Las aeron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1000" y="6039000"/>
            <a:ext cx="1533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OACI-FAA-J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8"/>
          <a:stretch/>
        </p:blipFill>
        <p:spPr>
          <a:xfrm>
            <a:off x="7315200" y="4952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7240" y="4287960"/>
            <a:ext cx="2124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Los fabricantes de aeron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0" y="1981080"/>
            <a:ext cx="4343400" cy="4343400"/>
          </a:xfrm>
          <a:prstGeom prst="ellipse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24480" y="3809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37339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9"/>
          <a:stretch/>
        </p:blipFill>
        <p:spPr>
          <a:xfrm>
            <a:off x="3635280" y="3068640"/>
            <a:ext cx="178776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0" y="1219320"/>
            <a:ext cx="3048120" cy="4876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2e00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23880" y="1219320"/>
            <a:ext cx="3048120" cy="4876560"/>
          </a:xfrm>
          <a:prstGeom prst="rect">
            <a:avLst/>
          </a:prstGeom>
          <a:gradFill rotWithShape="0">
            <a:gsLst>
              <a:gs pos="0">
                <a:srgbClr val="12494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3581280"/>
            <a:ext cx="1981440" cy="175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3809880"/>
            <a:ext cx="1981440" cy="17528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7600" y="1905120"/>
            <a:ext cx="1981080" cy="1752480"/>
          </a:xfrm>
          <a:prstGeom prst="ellips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2552760"/>
            <a:ext cx="1981440" cy="1752480"/>
          </a:xfrm>
          <a:prstGeom prst="ellips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0" y="5410080"/>
            <a:ext cx="160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per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2880" y="1355760"/>
            <a:ext cx="15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Irregula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69880" y="45864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b76"/>
                </a:solidFill>
                <a:latin typeface="Times New Roman"/>
              </a:rPr>
              <a:t>F.O.Q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37600" y="2101680"/>
            <a:ext cx="16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b76"/>
                </a:solidFill>
                <a:latin typeface="Times New Roman"/>
              </a:rPr>
              <a:t>COLE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b76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06600" y="3016080"/>
            <a:ext cx="767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I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BA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I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AS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42280" y="4495680"/>
            <a:ext cx="157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b76"/>
                </a:solidFill>
                <a:latin typeface="Times New Roman"/>
              </a:rPr>
              <a:t>ERR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b76"/>
                </a:solidFill>
                <a:latin typeface="Times New Roman"/>
              </a:rPr>
              <a:t>APRENDIZAJE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81240" y="228600"/>
            <a:ext cx="574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00"/>
                </a:solidFill>
                <a:uFillTx/>
                <a:latin typeface="Times New Roman"/>
              </a:rPr>
              <a:t>MODELO  TEM </a:t>
            </a:r>
            <a:r>
              <a:rPr b="1" lang="es-MX" sz="1000" spc="-1" strike="noStrike">
                <a:solidFill>
                  <a:srgbClr val="ffff00"/>
                </a:solidFill>
                <a:latin typeface="Times New Roman"/>
              </a:rPr>
              <a:t>(Threat &amp; Error Management )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U. T  Helmreich &amp; Klinect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219320"/>
            <a:ext cx="6096240" cy="4876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65560" y="5943600"/>
            <a:ext cx="144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imes New Roman"/>
              </a:rPr>
              <a:t>Fuente: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OACI /  Boeing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J. Castaño&amp; Graeber</a:t>
            </a:r>
            <a:r>
              <a:rPr b="1" lang="es-MX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2743200"/>
            <a:ext cx="1981440" cy="1752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3760" y="3200400"/>
            <a:ext cx="87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LO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257800"/>
            <a:ext cx="28195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523520" y="5257800"/>
            <a:ext cx="3048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447920"/>
            <a:ext cx="159660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INTERN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F/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M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PRÁC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EMO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PROP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OT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24440" y="1447920"/>
            <a:ext cx="165276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imes New Roman"/>
              </a:rPr>
              <a:t>EXTERNAS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AC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ME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A.T.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O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G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CRITE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PA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ENFERM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imes New Roman"/>
              </a:rPr>
              <a:t>OT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3809880"/>
            <a:ext cx="914400" cy="9144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.Q.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2520" y="5410080"/>
            <a:ext cx="160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per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n  Ob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655560" cy="89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Puerta  1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68515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vacuación del avión A-340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114800" cy="2485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572000" y="3860640"/>
            <a:ext cx="4213080" cy="2546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328920" cy="4438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105440" cy="2955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4643280" y="4292640"/>
            <a:ext cx="4104000" cy="2313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Usemos  el CRM Sk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13120" y="836640"/>
            <a:ext cx="701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“ 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Muchas cosas se juzgan  imposi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  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de hac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Hasta que están  hechas 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	</a:t>
            </a:r>
            <a:r>
              <a:rPr b="1" i="1" lang="es-CL" sz="2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          </a:t>
            </a:r>
            <a:r>
              <a:rPr b="1" i="1" lang="es-CL" sz="1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Plinio el viejo </a:t>
            </a:r>
            <a:r>
              <a:rPr b="1" i="1" lang="es-CL" sz="14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( 43 a.C)</a:t>
            </a:r>
            <a:r>
              <a:rPr b="1" i="1" lang="es-CL" sz="1800" spc="-1" strike="noStrike">
                <a:solidFill>
                  <a:srgbClr val="ffff00"/>
                </a:solidFill>
                <a:latin typeface="Bookman Old Style"/>
                <a:ea typeface="MS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4897440" cy="3478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Verdana"/>
              </a:rPr>
              <a:t>Entregar  herramientas teóricas y práctica relativas a los Factores Humanos en la interacción Hombre Máquina -  Medi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Verdana"/>
              </a:rPr>
              <a:t>Aplicar en base del estudio de casos la aplicación del CRM Skil para las Tripulantes de Cabina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182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isión Operacional …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uzzle3"/>
          <p:cNvSpPr/>
          <p:nvPr/>
        </p:nvSpPr>
        <p:spPr>
          <a:xfrm>
            <a:off x="4495680" y="762120"/>
            <a:ext cx="3048120" cy="297180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uzzle2"/>
          <p:cNvSpPr/>
          <p:nvPr/>
        </p:nvSpPr>
        <p:spPr>
          <a:xfrm>
            <a:off x="4038480" y="2895480"/>
            <a:ext cx="3962520" cy="320040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RM 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b76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uzzle4"/>
          <p:cNvSpPr/>
          <p:nvPr/>
        </p:nvSpPr>
        <p:spPr>
          <a:xfrm>
            <a:off x="2286000" y="3124080"/>
            <a:ext cx="2590920" cy="33530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     </a:t>
            </a:r>
            <a:r>
              <a:rPr b="1" lang="es-CL" sz="2400" spc="-1" strike="noStrike">
                <a:solidFill>
                  <a:srgbClr val="003b76"/>
                </a:solidFill>
                <a:latin typeface="Times New Roman"/>
              </a:rPr>
              <a:t>C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b76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3b7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uzzle1"/>
          <p:cNvSpPr/>
          <p:nvPr/>
        </p:nvSpPr>
        <p:spPr>
          <a:xfrm>
            <a:off x="1676520" y="1447920"/>
            <a:ext cx="3809880" cy="24382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FF.H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90680" y="1644480"/>
            <a:ext cx="2248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2a"/>
                </a:solidFill>
                <a:latin typeface="Times New Roman"/>
              </a:rPr>
              <a:t>CONCIENCI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2a"/>
                </a:solidFill>
                <a:latin typeface="Times New Roman"/>
              </a:rPr>
              <a:t>SITUACIONA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 rot="20319000">
            <a:off x="1402920" y="2421000"/>
            <a:ext cx="687060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GURIDAD  AEREA  EN LAS  CABINAS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8000" y="1844640"/>
            <a:ext cx="88930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91520" y="4267080"/>
            <a:ext cx="1371600" cy="609840"/>
          </a:xfrm>
          <a:prstGeom prst="ellipse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1080" y="1512720"/>
          <a:ext cx="9144000" cy="48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51272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TOTAL DE SUCESOS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ANUALES 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OCURRIDOS</a:t>
            </a:r>
            <a:br>
              <a:rPr sz="2000"/>
            </a:b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 ENTRE   </a:t>
            </a:r>
            <a:r>
              <a:rPr b="1" i="1" lang="es-ES_tradnl" sz="2000" spc="-1" strike="noStrike" u="sng">
                <a:solidFill>
                  <a:srgbClr val="ffff00"/>
                </a:solidFill>
                <a:uFillTx/>
                <a:latin typeface="Arial"/>
              </a:rPr>
              <a:t>1990  -  2004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49080" y="588168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Times New Roman"/>
              </a:rPr>
              <a:t>FUENTE: DGA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94000" y="1847880"/>
            <a:ext cx="5562720" cy="716040"/>
          </a:xfrm>
          <a:custGeom>
            <a:avLst/>
            <a:gdLst/>
            <a:ahLst/>
            <a:rect l="l" t="t" r="r" b="b"/>
            <a:pathLst>
              <a:path w="15454" h="1985">
                <a:moveTo>
                  <a:pt x="6648" y="5135"/>
                </a:moveTo>
                <a:cubicBezTo>
                  <a:pt x="6738" y="5173"/>
                  <a:pt x="6832" y="5225"/>
                  <a:pt x="6921" y="5259"/>
                </a:cubicBezTo>
                <a:cubicBezTo>
                  <a:pt x="7060" y="5313"/>
                  <a:pt x="7204" y="5344"/>
                  <a:pt x="7342" y="5383"/>
                </a:cubicBezTo>
                <a:cubicBezTo>
                  <a:pt x="7406" y="5401"/>
                  <a:pt x="7454" y="5420"/>
                  <a:pt x="7516" y="5432"/>
                </a:cubicBezTo>
                <a:cubicBezTo>
                  <a:pt x="7671" y="5461"/>
                  <a:pt x="7818" y="5439"/>
                  <a:pt x="7962" y="5432"/>
                </a:cubicBezTo>
                <a:cubicBezTo>
                  <a:pt x="8018" y="5429"/>
                  <a:pt x="8094" y="5410"/>
                  <a:pt x="8136" y="5407"/>
                </a:cubicBezTo>
                <a:cubicBezTo>
                  <a:pt x="8412" y="5390"/>
                  <a:pt x="8646" y="5441"/>
                  <a:pt x="8880" y="5531"/>
                </a:cubicBezTo>
                <a:cubicBezTo>
                  <a:pt x="8959" y="5561"/>
                  <a:pt x="8994" y="5586"/>
                  <a:pt x="9079" y="5606"/>
                </a:cubicBezTo>
                <a:cubicBezTo>
                  <a:pt x="9109" y="5613"/>
                  <a:pt x="9132" y="5618"/>
                  <a:pt x="9178" y="5631"/>
                </a:cubicBezTo>
                <a:cubicBezTo>
                  <a:pt x="9235" y="5648"/>
                  <a:pt x="9294" y="5640"/>
                  <a:pt x="9351" y="5655"/>
                </a:cubicBezTo>
                <a:cubicBezTo>
                  <a:pt x="9489" y="5691"/>
                  <a:pt x="9580" y="5719"/>
                  <a:pt x="9723" y="5730"/>
                </a:cubicBezTo>
                <a:cubicBezTo>
                  <a:pt x="9839" y="5739"/>
                  <a:pt x="9991" y="5735"/>
                  <a:pt x="10071" y="5755"/>
                </a:cubicBezTo>
                <a:cubicBezTo>
                  <a:pt x="10161" y="5778"/>
                  <a:pt x="10209" y="5808"/>
                  <a:pt x="10294" y="5854"/>
                </a:cubicBezTo>
                <a:cubicBezTo>
                  <a:pt x="10351" y="5885"/>
                  <a:pt x="10385" y="5919"/>
                  <a:pt x="10443" y="5953"/>
                </a:cubicBezTo>
                <a:cubicBezTo>
                  <a:pt x="10488" y="5980"/>
                  <a:pt x="10541" y="5989"/>
                  <a:pt x="10592" y="6028"/>
                </a:cubicBezTo>
                <a:cubicBezTo>
                  <a:pt x="10629" y="6056"/>
                  <a:pt x="10639" y="6058"/>
                  <a:pt x="10666" y="6077"/>
                </a:cubicBezTo>
                <a:cubicBezTo>
                  <a:pt x="10703" y="6103"/>
                  <a:pt x="10742" y="6158"/>
                  <a:pt x="10765" y="6176"/>
                </a:cubicBezTo>
                <a:cubicBezTo>
                  <a:pt x="10802" y="6204"/>
                  <a:pt x="10894" y="6233"/>
                  <a:pt x="10914" y="6251"/>
                </a:cubicBezTo>
                <a:cubicBezTo>
                  <a:pt x="10966" y="6296"/>
                  <a:pt x="10991" y="6314"/>
                  <a:pt x="11038" y="6350"/>
                </a:cubicBezTo>
                <a:cubicBezTo>
                  <a:pt x="11084" y="6385"/>
                  <a:pt x="11094" y="6415"/>
                  <a:pt x="11137" y="6449"/>
                </a:cubicBezTo>
                <a:cubicBezTo>
                  <a:pt x="11167" y="6473"/>
                  <a:pt x="11200" y="6497"/>
                  <a:pt x="11237" y="6524"/>
                </a:cubicBezTo>
                <a:cubicBezTo>
                  <a:pt x="11263" y="6543"/>
                  <a:pt x="11322" y="6589"/>
                  <a:pt x="11336" y="6598"/>
                </a:cubicBezTo>
                <a:cubicBezTo>
                  <a:pt x="11390" y="6633"/>
                  <a:pt x="11464" y="6645"/>
                  <a:pt x="11509" y="6672"/>
                </a:cubicBezTo>
                <a:cubicBezTo>
                  <a:pt x="11643" y="6753"/>
                  <a:pt x="11756" y="6812"/>
                  <a:pt x="11906" y="6871"/>
                </a:cubicBezTo>
                <a:cubicBezTo>
                  <a:pt x="11998" y="6907"/>
                  <a:pt x="12089" y="6935"/>
                  <a:pt x="12179" y="6970"/>
                </a:cubicBezTo>
                <a:cubicBezTo>
                  <a:pt x="12237" y="6993"/>
                  <a:pt x="12300" y="7027"/>
                  <a:pt x="12353" y="7045"/>
                </a:cubicBezTo>
                <a:cubicBezTo>
                  <a:pt x="12422" y="7069"/>
                  <a:pt x="12531" y="7109"/>
                  <a:pt x="12601" y="7119"/>
                </a:cubicBezTo>
                <a:cubicBezTo>
                  <a:pt x="12882" y="7159"/>
                  <a:pt x="13189" y="7110"/>
                  <a:pt x="13469" y="7094"/>
                </a:cubicBezTo>
                <a:cubicBezTo>
                  <a:pt x="13527" y="7091"/>
                  <a:pt x="13556" y="7072"/>
                  <a:pt x="13618" y="7069"/>
                </a:cubicBezTo>
                <a:cubicBezTo>
                  <a:pt x="13934" y="7056"/>
                  <a:pt x="14291" y="7095"/>
                  <a:pt x="14585" y="7020"/>
                </a:cubicBezTo>
                <a:cubicBezTo>
                  <a:pt x="14635" y="7007"/>
                  <a:pt x="14662" y="6982"/>
                  <a:pt x="14709" y="6970"/>
                </a:cubicBezTo>
                <a:cubicBezTo>
                  <a:pt x="14770" y="6954"/>
                  <a:pt x="14803" y="6945"/>
                  <a:pt x="14858" y="6921"/>
                </a:cubicBezTo>
                <a:cubicBezTo>
                  <a:pt x="14888" y="6908"/>
                  <a:pt x="14926" y="6908"/>
                  <a:pt x="14957" y="6896"/>
                </a:cubicBezTo>
                <a:cubicBezTo>
                  <a:pt x="15011" y="6875"/>
                  <a:pt x="15064" y="6815"/>
                  <a:pt x="15106" y="6796"/>
                </a:cubicBezTo>
                <a:cubicBezTo>
                  <a:pt x="15172" y="6767"/>
                  <a:pt x="15265" y="6757"/>
                  <a:pt x="15329" y="6722"/>
                </a:cubicBezTo>
                <a:cubicBezTo>
                  <a:pt x="15381" y="6694"/>
                  <a:pt x="15413" y="6647"/>
                  <a:pt x="15453" y="6623"/>
                </a:cubicBezTo>
                <a:cubicBezTo>
                  <a:pt x="15498" y="6596"/>
                  <a:pt x="15505" y="6577"/>
                  <a:pt x="15553" y="6548"/>
                </a:cubicBezTo>
                <a:cubicBezTo>
                  <a:pt x="15595" y="6523"/>
                  <a:pt x="15636" y="6496"/>
                  <a:pt x="15677" y="6474"/>
                </a:cubicBezTo>
                <a:cubicBezTo>
                  <a:pt x="15729" y="6446"/>
                  <a:pt x="15771" y="6426"/>
                  <a:pt x="15825" y="6400"/>
                </a:cubicBezTo>
                <a:cubicBezTo>
                  <a:pt x="15837" y="6394"/>
                  <a:pt x="15895" y="6389"/>
                  <a:pt x="15925" y="6375"/>
                </a:cubicBezTo>
                <a:cubicBezTo>
                  <a:pt x="15944" y="6366"/>
                  <a:pt x="15999" y="6339"/>
                  <a:pt x="16024" y="6325"/>
                </a:cubicBezTo>
                <a:cubicBezTo>
                  <a:pt x="16064" y="6302"/>
                  <a:pt x="16106" y="6274"/>
                  <a:pt x="16148" y="6251"/>
                </a:cubicBezTo>
                <a:cubicBezTo>
                  <a:pt x="16219" y="6212"/>
                  <a:pt x="16284" y="6166"/>
                  <a:pt x="16346" y="6127"/>
                </a:cubicBezTo>
                <a:cubicBezTo>
                  <a:pt x="16451" y="6238"/>
                  <a:pt x="16241" y="6312"/>
                  <a:pt x="16396" y="6300"/>
                </a:cubicBezTo>
                <a:cubicBezTo>
                  <a:pt x="16496" y="6292"/>
                  <a:pt x="16507" y="6239"/>
                  <a:pt x="16594" y="6201"/>
                </a:cubicBezTo>
                <a:cubicBezTo>
                  <a:pt x="16658" y="6173"/>
                  <a:pt x="16729" y="6115"/>
                  <a:pt x="16793" y="6077"/>
                </a:cubicBezTo>
                <a:cubicBezTo>
                  <a:pt x="16840" y="6049"/>
                  <a:pt x="16907" y="6016"/>
                  <a:pt x="16966" y="5978"/>
                </a:cubicBezTo>
                <a:cubicBezTo>
                  <a:pt x="17041" y="5930"/>
                  <a:pt x="17115" y="5879"/>
                  <a:pt x="17190" y="5829"/>
                </a:cubicBezTo>
                <a:cubicBezTo>
                  <a:pt x="17243" y="5794"/>
                  <a:pt x="17254" y="5767"/>
                  <a:pt x="17314" y="5730"/>
                </a:cubicBezTo>
                <a:cubicBezTo>
                  <a:pt x="17388" y="5683"/>
                  <a:pt x="17443" y="5650"/>
                  <a:pt x="17512" y="5606"/>
                </a:cubicBezTo>
                <a:cubicBezTo>
                  <a:pt x="17587" y="5558"/>
                  <a:pt x="17668" y="5500"/>
                  <a:pt x="17735" y="5457"/>
                </a:cubicBezTo>
                <a:cubicBezTo>
                  <a:pt x="17777" y="5430"/>
                  <a:pt x="17791" y="5379"/>
                  <a:pt x="17835" y="5358"/>
                </a:cubicBezTo>
                <a:cubicBezTo>
                  <a:pt x="17880" y="5337"/>
                  <a:pt x="17885" y="5351"/>
                  <a:pt x="17934" y="5333"/>
                </a:cubicBezTo>
                <a:cubicBezTo>
                  <a:pt x="17979" y="5316"/>
                  <a:pt x="17964" y="5323"/>
                  <a:pt x="18033" y="5308"/>
                </a:cubicBezTo>
                <a:cubicBezTo>
                  <a:pt x="18132" y="5286"/>
                  <a:pt x="18224" y="5293"/>
                  <a:pt x="18331" y="5283"/>
                </a:cubicBezTo>
                <a:cubicBezTo>
                  <a:pt x="18450" y="5271"/>
                  <a:pt x="18556" y="5264"/>
                  <a:pt x="18678" y="5259"/>
                </a:cubicBezTo>
                <a:cubicBezTo>
                  <a:pt x="18919" y="5250"/>
                  <a:pt x="19165" y="5207"/>
                  <a:pt x="19397" y="5209"/>
                </a:cubicBezTo>
                <a:cubicBezTo>
                  <a:pt x="19504" y="5210"/>
                  <a:pt x="19599" y="5210"/>
                  <a:pt x="19695" y="5234"/>
                </a:cubicBezTo>
                <a:cubicBezTo>
                  <a:pt x="19765" y="5251"/>
                  <a:pt x="19831" y="5300"/>
                  <a:pt x="19918" y="5333"/>
                </a:cubicBezTo>
                <a:cubicBezTo>
                  <a:pt x="20015" y="5369"/>
                  <a:pt x="20099" y="5398"/>
                  <a:pt x="20191" y="5432"/>
                </a:cubicBezTo>
                <a:cubicBezTo>
                  <a:pt x="20293" y="5470"/>
                  <a:pt x="20355" y="5484"/>
                  <a:pt x="20464" y="5531"/>
                </a:cubicBezTo>
                <a:cubicBezTo>
                  <a:pt x="20504" y="5548"/>
                  <a:pt x="20543" y="5559"/>
                  <a:pt x="20588" y="5581"/>
                </a:cubicBezTo>
                <a:cubicBezTo>
                  <a:pt x="20621" y="5598"/>
                  <a:pt x="20640" y="5610"/>
                  <a:pt x="20687" y="5631"/>
                </a:cubicBezTo>
                <a:cubicBezTo>
                  <a:pt x="20727" y="5649"/>
                  <a:pt x="20770" y="5688"/>
                  <a:pt x="20811" y="5705"/>
                </a:cubicBezTo>
                <a:cubicBezTo>
                  <a:pt x="20885" y="5735"/>
                  <a:pt x="20959" y="5744"/>
                  <a:pt x="21034" y="5779"/>
                </a:cubicBezTo>
                <a:cubicBezTo>
                  <a:pt x="21063" y="5792"/>
                  <a:pt x="21071" y="5811"/>
                  <a:pt x="21109" y="5829"/>
                </a:cubicBezTo>
                <a:cubicBezTo>
                  <a:pt x="21157" y="5852"/>
                  <a:pt x="21177" y="5850"/>
                  <a:pt x="21233" y="5879"/>
                </a:cubicBezTo>
                <a:cubicBezTo>
                  <a:pt x="21268" y="5897"/>
                  <a:pt x="21345" y="5928"/>
                  <a:pt x="21382" y="5953"/>
                </a:cubicBezTo>
                <a:cubicBezTo>
                  <a:pt x="21391" y="5959"/>
                  <a:pt x="21464" y="5989"/>
                  <a:pt x="21481" y="6003"/>
                </a:cubicBezTo>
                <a:cubicBezTo>
                  <a:pt x="21506" y="6024"/>
                  <a:pt x="21478" y="6059"/>
                  <a:pt x="21506" y="6077"/>
                </a:cubicBezTo>
                <a:cubicBezTo>
                  <a:pt x="21573" y="6086"/>
                  <a:pt x="21620" y="6113"/>
                  <a:pt x="21679" y="6127"/>
                </a:cubicBezTo>
                <a:cubicBezTo>
                  <a:pt x="21696" y="6127"/>
                  <a:pt x="21712" y="6127"/>
                  <a:pt x="21729" y="6127"/>
                </a:cubicBezTo>
                <a:cubicBezTo>
                  <a:pt x="21734" y="6129"/>
                  <a:pt x="21790" y="6182"/>
                  <a:pt x="21828" y="6201"/>
                </a:cubicBezTo>
                <a:cubicBezTo>
                  <a:pt x="21902" y="6238"/>
                  <a:pt x="21957" y="6269"/>
                  <a:pt x="22027" y="6300"/>
                </a:cubicBezTo>
                <a:cubicBezTo>
                  <a:pt x="22049" y="6310"/>
                  <a:pt x="22079" y="6314"/>
                  <a:pt x="22101" y="632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2426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00"/>
                </a:solidFill>
                <a:uFillTx/>
                <a:latin typeface="Arial"/>
              </a:rPr>
              <a:t>ÁREAS  DE ACCIDENTABILIDAD</a:t>
            </a:r>
            <a:br>
              <a:rPr sz="2400"/>
            </a:br>
            <a:r>
              <a:rPr b="1" i="1" lang="es-MX" sz="1800" spc="-1" strike="noStrike">
                <a:solidFill>
                  <a:srgbClr val="ffff00"/>
                </a:solidFill>
                <a:latin typeface="Arial"/>
              </a:rPr>
              <a:t>(1992 – 2004)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14400" y="1295280"/>
          <a:ext cx="7848720" cy="496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295280"/>
                    <a:ext cx="78487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81280" y="5181480"/>
            <a:ext cx="838440" cy="457200"/>
          </a:xfrm>
          <a:prstGeom prst="rect">
            <a:avLst/>
          </a:prstGeom>
          <a:solidFill>
            <a:srgbClr val="0066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800600"/>
            <a:ext cx="762120" cy="457200"/>
          </a:xfrm>
          <a:prstGeom prst="rect">
            <a:avLst/>
          </a:prstGeom>
          <a:solidFill>
            <a:srgbClr val="0066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057400"/>
            <a:ext cx="914400" cy="380880"/>
          </a:xfrm>
          <a:prstGeom prst="rect">
            <a:avLst/>
          </a:prstGeom>
          <a:solidFill>
            <a:srgbClr val="0066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1,8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143000" y="4190760"/>
            <a:ext cx="38088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438280"/>
            <a:ext cx="76212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2057400"/>
            <a:ext cx="914400" cy="380880"/>
          </a:xfrm>
          <a:prstGeom prst="rect">
            <a:avLst/>
          </a:prstGeom>
          <a:solidFill>
            <a:srgbClr val="0066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5,51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76720" y="2514600"/>
            <a:ext cx="30456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07680" y="5943600"/>
            <a:ext cx="80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66cc"/>
                </a:solidFill>
                <a:latin typeface="Times New Roman"/>
              </a:rPr>
              <a:t>Fuente: DGA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38480" y="4495320"/>
            <a:ext cx="3049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MODELO SHELL </a:t>
            </a:r>
            <a:r>
              <a:rPr b="0" lang="es-ES_tradnl" sz="1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s-ES" sz="1000" spc="-1" strike="noStrike">
                <a:solidFill>
                  <a:srgbClr val="ffff00"/>
                </a:solidFill>
                <a:latin typeface="Arial"/>
              </a:rPr>
              <a:t>Modificado Hawkins 1975)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1447920"/>
            <a:ext cx="1143000" cy="114300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3b76"/>
                </a:solidFill>
                <a:latin typeface="Courier New"/>
              </a:rPr>
              <a:t>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4952880"/>
            <a:ext cx="1214280" cy="1214640"/>
          </a:xfrm>
          <a:prstGeom prst="cube">
            <a:avLst>
              <a:gd name="adj" fmla="val 25000"/>
            </a:avLst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cccc"/>
                </a:solidFill>
                <a:latin typeface="Courier New"/>
              </a:rPr>
              <a:t>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3276720"/>
            <a:ext cx="1214280" cy="1214280"/>
          </a:xfrm>
          <a:prstGeom prst="cube">
            <a:avLst>
              <a:gd name="adj" fmla="val 250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3b76"/>
                </a:solidFill>
                <a:latin typeface="Courier New"/>
              </a:rPr>
              <a:t>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2514600"/>
            <a:ext cx="1752480" cy="2895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3b76"/>
                </a:solidFill>
                <a:latin typeface="Courier New"/>
              </a:rPr>
              <a:t>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3200400"/>
            <a:ext cx="1214640" cy="1214280"/>
          </a:xfrm>
          <a:prstGeom prst="cube">
            <a:avLst>
              <a:gd name="adj" fmla="val 25000"/>
            </a:avLst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Courier New"/>
              </a:rPr>
              <a:t>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743200" y="2665440"/>
            <a:ext cx="3652920" cy="2517120"/>
            <a:chOff x="2743200" y="2665440"/>
            <a:chExt cx="3652920" cy="2517120"/>
          </a:xfrm>
        </p:grpSpPr>
        <p:sp>
          <p:nvSpPr>
            <p:cNvPr id="204" name=""/>
            <p:cNvSpPr/>
            <p:nvPr/>
          </p:nvSpPr>
          <p:spPr>
            <a:xfrm>
              <a:off x="5181840" y="3657600"/>
              <a:ext cx="1214280" cy="485640"/>
            </a:xfrm>
            <a:prstGeom prst="leftRightArrow">
              <a:avLst>
                <a:gd name="adj1" fmla="val 50000"/>
                <a:gd name="adj2" fmla="val 49776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365760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19200">
              <a:off x="4228920" y="2856960"/>
              <a:ext cx="762120" cy="380880"/>
            </a:xfrm>
            <a:prstGeom prst="leftRightArrow">
              <a:avLst>
                <a:gd name="adj1" fmla="val 50000"/>
                <a:gd name="adj2" fmla="val 39834"/>
              </a:avLst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19200">
              <a:off x="4152960" y="4609800"/>
              <a:ext cx="761760" cy="381240"/>
            </a:xfrm>
            <a:prstGeom prst="leftRightArrow">
              <a:avLst>
                <a:gd name="adj1" fmla="val 50000"/>
                <a:gd name="adj2" fmla="val 39777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28600" y="5895360"/>
            <a:ext cx="3029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ffffff"/>
                </a:solidFill>
                <a:latin typeface="Courier New"/>
              </a:rPr>
              <a:t>FUENTE :MANUAL FF.HH. OACI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1282680" cy="961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140360" y="3614760"/>
            <a:ext cx="792000" cy="7509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822680" y="929880"/>
            <a:ext cx="6614640" cy="5253840"/>
            <a:chOff x="1822680" y="929880"/>
            <a:chExt cx="6614640" cy="5253840"/>
          </a:xfrm>
        </p:grpSpPr>
        <p:sp>
          <p:nvSpPr>
            <p:cNvPr id="212" name=""/>
            <p:cNvSpPr/>
            <p:nvPr/>
          </p:nvSpPr>
          <p:spPr>
            <a:xfrm rot="10777200">
              <a:off x="1828080" y="1903320"/>
              <a:ext cx="2057400" cy="1689120"/>
            </a:xfrm>
            <a:custGeom>
              <a:avLst/>
              <a:gdLst>
                <a:gd name="textAreaLeft" fmla="*/ 636840 w 2057400"/>
                <a:gd name="textAreaRight" fmla="*/ 1707840 w 2057400"/>
                <a:gd name="textAreaTop" fmla="*/ 1076400 h 1689120"/>
                <a:gd name="textAreaBottom" fmla="*/ 1402200 h 168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846"/>
                  </a:moveTo>
                  <a:lnTo>
                    <a:pt x="6688" y="10092"/>
                  </a:lnTo>
                  <a:lnTo>
                    <a:pt x="6688" y="13764"/>
                  </a:lnTo>
                  <a:lnTo>
                    <a:pt x="13764" y="13764"/>
                  </a:lnTo>
                  <a:lnTo>
                    <a:pt x="13764" y="6688"/>
                  </a:lnTo>
                  <a:lnTo>
                    <a:pt x="10092" y="6688"/>
                  </a:lnTo>
                  <a:lnTo>
                    <a:pt x="15846" y="0"/>
                  </a:lnTo>
                  <a:lnTo>
                    <a:pt x="21600" y="6688"/>
                  </a:lnTo>
                  <a:lnTo>
                    <a:pt x="17928" y="6688"/>
                  </a:lnTo>
                  <a:lnTo>
                    <a:pt x="17928" y="17928"/>
                  </a:lnTo>
                  <a:lnTo>
                    <a:pt x="6688" y="17928"/>
                  </a:lnTo>
                  <a:lnTo>
                    <a:pt x="6688" y="21600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613800">
              <a:off x="6204600" y="1035720"/>
              <a:ext cx="1495440" cy="2624040"/>
            </a:xfrm>
            <a:custGeom>
              <a:avLst/>
              <a:gdLst>
                <a:gd name="textAreaLeft" fmla="*/ 200160 w 1495440"/>
                <a:gd name="textAreaRight" fmla="*/ 1295280 w 1495440"/>
                <a:gd name="textAreaTop" fmla="*/ 459000 h 2624040"/>
                <a:gd name="textAreaBottom" fmla="*/ 1902600 h 26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33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516800">
              <a:off x="2922120" y="4699080"/>
              <a:ext cx="1446120" cy="733680"/>
            </a:xfrm>
            <a:custGeom>
              <a:avLst/>
              <a:gdLst>
                <a:gd name="textAreaLeft" fmla="*/ 253080 w 1446120"/>
                <a:gd name="textAreaRight" fmla="*/ 1048680 w 144612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622800">
              <a:off x="5780880" y="5116680"/>
              <a:ext cx="1214280" cy="733680"/>
            </a:xfrm>
            <a:custGeom>
              <a:avLst/>
              <a:gdLst>
                <a:gd name="textAreaLeft" fmla="*/ 212400 w 1214280"/>
                <a:gd name="textAreaRight" fmla="*/ 880560 w 1214280"/>
                <a:gd name="textAreaTop" fmla="*/ 98280 h 733680"/>
                <a:gd name="textAreaBottom" fmla="*/ 63540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l modelo J. Reason 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( 1990)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057400"/>
            <a:ext cx="190512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2819520"/>
            <a:ext cx="190512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29000" y="3505320"/>
            <a:ext cx="190512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4038480"/>
            <a:ext cx="190512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724280"/>
            <a:ext cx="1904760" cy="1143000"/>
          </a:xfrm>
          <a:prstGeom prst="rect">
            <a:avLst/>
          </a:prstGeom>
          <a:solidFill>
            <a:srgbClr val="cce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36576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2057400"/>
            <a:ext cx="304920" cy="304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373392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44956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5410080"/>
            <a:ext cx="25909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 Narrow"/>
              </a:rPr>
              <a:t>MUNDO REAL</a:t>
            </a:r>
            <a:endParaRPr b="0" lang="en-US" sz="2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 Narrow"/>
              <a:ea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56120" y="26665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OPE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89280" y="3200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PRÁCTIC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OPUES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98400" y="411444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COMPET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DESL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12800" y="480024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AUSENCI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TECNOLO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13000" y="54097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RESQUIC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urier New"/>
              </a:rPr>
              <a:t>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24382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3048120"/>
            <a:ext cx="304920" cy="304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3962520"/>
            <a:ext cx="304920" cy="304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4191120"/>
            <a:ext cx="304920" cy="304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5105520"/>
            <a:ext cx="304920" cy="30456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18148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4800600"/>
            <a:ext cx="304920" cy="304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743200"/>
            <a:ext cx="228600" cy="228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3124080"/>
            <a:ext cx="304920" cy="3049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248520" y="1600200"/>
            <a:ext cx="2495520" cy="4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66cc"/>
                  </a:solidFill>
                  <a:miter/>
                </a:ln>
                <a:solidFill>
                  <a:srgbClr val="ffffff"/>
                </a:solidFill>
                <a:latin typeface="Arial Narrow"/>
              </a:rPr>
              <a:t>MUNDO TEORICO</a:t>
            </a:r>
            <a:endParaRPr b="0" lang="en-US" sz="2800" spc="1" strike="noStrike">
              <a:ln w="9360">
                <a:solidFill>
                  <a:srgbClr val="0066cc"/>
                </a:solidFill>
                <a:miter/>
              </a:ln>
              <a:solidFill>
                <a:srgbClr val="ffffff"/>
              </a:solidFill>
              <a:latin typeface="Arial Narrow"/>
              <a:ea typeface="Arial Narrow"/>
            </a:endParaRPr>
          </a:p>
        </p:txBody>
      </p:sp>
      <p:sp>
        <p:nvSpPr>
          <p:cNvPr id="243" name=""/>
          <p:cNvSpPr/>
          <p:nvPr/>
        </p:nvSpPr>
        <p:spPr>
          <a:xfrm>
            <a:off x="3659400" y="22089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SENSATA CONDU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3440" y="30470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NOBLE DISCUR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1880" y="3427920"/>
            <a:ext cx="261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OPORTUNIDADES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50320" y="4113720"/>
            <a:ext cx="185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MODE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9440" y="49359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REGLA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urier New"/>
              </a:rPr>
              <a:t>OF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7400" y="2286000"/>
            <a:ext cx="685800" cy="4572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3200400"/>
            <a:ext cx="381240" cy="2286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3886200"/>
            <a:ext cx="228600" cy="1522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4343400"/>
            <a:ext cx="609480" cy="3808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5257800"/>
            <a:ext cx="533160" cy="30492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1066320" y="1600200"/>
            <a:ext cx="762120" cy="53352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2520" y="6095880"/>
            <a:ext cx="148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ffffff"/>
                </a:solidFill>
                <a:latin typeface="Times New Roman"/>
              </a:rPr>
              <a:t>REF: Manual  OACI ,FF.HH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732720" y="5645160"/>
            <a:ext cx="1989000" cy="1168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rcRect l="58477" t="0" r="0" b="0"/>
          <a:stretch/>
        </p:blipFill>
        <p:spPr>
          <a:xfrm>
            <a:off x="6732720" y="5661000"/>
            <a:ext cx="20415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</a:rPr>
              <a:t>Perdida de Conciencia Situacional ( P.C.S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76920" y="2666880"/>
            <a:ext cx="4038480" cy="3200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a </a:t>
            </a:r>
            <a:r>
              <a:rPr b="1" i="1" lang="es-MX" sz="2800" spc="-1" strike="noStrike">
                <a:solidFill>
                  <a:srgbClr val="ccecff"/>
                </a:solidFill>
                <a:latin typeface="Verdana"/>
              </a:rPr>
              <a:t>Conciencia Situacional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 , es verificar que esta pasado a nuestro alrededor y no perder esa condció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468200" y="6049800"/>
            <a:ext cx="1305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ffffff"/>
                </a:solidFill>
                <a:latin typeface="Times New Roman"/>
              </a:rPr>
              <a:t>REF: MANUAL F.H. - OAC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3600360" cy="322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>
    <p:cut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20:21:18Z</dcterms:created>
  <dc:creator>CLAUDIO PANDOLFI</dc:creator>
  <dc:description>ESTRATEGIAS PREVAC 2003/8</dc:description>
  <dc:language>en-US</dc:language>
  <cp:lastModifiedBy>Claudio Pandolfi</cp:lastModifiedBy>
  <dcterms:modified xsi:type="dcterms:W3CDTF">2007-10-10T12:10:24Z</dcterms:modified>
  <cp:revision>17</cp:revision>
  <dc:subject>Seminario TCP</dc:subject>
  <dc:title>Cabin Safety </dc:title>
</cp:coreProperties>
</file>