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a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7085-8BAB-4235-9D9B-B84C065392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FBD-A98D-4BEE-A3B0-A04131C02400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345-ADB5-4237-ABAA-FB0CB027838D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6ED2-48C7-4896-A5A6-F787FEE62BE5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5F65-4D58-49B8-B61E-223AE4D38FEE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0B4-1F81-4BB5-AA9A-819BAFC1C16C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AB24-9FE5-4BD4-B6CF-5E5C76C4BF6F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78E-21E5-4827-9A4B-DC04FF396164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796-1782-40A8-A47E-B69568F9144F}" type="slidenum">
              <a:rPr b="0" lang="es-CL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8352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3834-3CEA-4503-A5FC-6050742D64CA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CDAA-0A02-4D8E-84FB-E071C6FE22CA}" type="slidenum">
              <a:rPr b="0" lang="es-ES" sz="1200" spc="-1" strike="noStrike">
                <a:solidFill>
                  <a:srgbClr val="0055a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678-828E-4BC9-A6C2-5398903F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50A-2F4F-418F-8995-7890E75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F20-A4A2-47A8-9219-D64D0957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649-866E-49CA-91C5-3F9C9E7B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C32-0BAE-4D70-96EB-5DDA734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817-6E57-49E2-A737-4C32FA25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024-861A-4FA5-8276-43EA675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972-2C72-4100-B9DC-230BF3F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F2C-E917-4911-891D-91E210A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98D-0B72-416A-B9DD-E8AE2BD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819-E8AD-40EE-B380-0D61A0C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2A0-7303-4564-A1D2-F6E165F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a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5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5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5a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9c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9c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9c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C1E8-4E35-4BE7-A513-F85CDBD19EDA}" type="slidenum">
              <a:rPr b="0" lang="en-US" sz="1200" spc="-1" strike="noStrike">
                <a:solidFill>
                  <a:srgbClr val="8999c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rsev.cl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rsev.cl/" TargetMode="External"/><Relationship Id="rId2" Type="http://schemas.openxmlformats.org/officeDocument/2006/relationships/image" Target="../media/image3.png"/><Relationship Id="rId3" Type="http://schemas.openxmlformats.org/officeDocument/2006/relationships/hyperlink" Target="mailto:contacto@sarsev.c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396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71360" y="5000400"/>
            <a:ext cx="641484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99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8999c0"/>
                </a:solidFill>
                <a:latin typeface="Calibri"/>
              </a:rPr>
              <a:t>Abril </a:t>
            </a:r>
            <a:r>
              <a:rPr b="1" lang="en-US" sz="3300" spc="-1" strike="noStrike">
                <a:solidFill>
                  <a:srgbClr val="8999c0"/>
                </a:solidFill>
                <a:latin typeface="Calibri"/>
              </a:rPr>
              <a:t> 2010</a:t>
            </a:r>
            <a:endParaRPr b="0" lang="en-US" sz="3300" spc="-1" strike="noStrike">
              <a:solidFill>
                <a:srgbClr val="0055a4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55a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28800" y="213840"/>
            <a:ext cx="33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a4"/>
                </a:solidFill>
                <a:latin typeface="Calibri"/>
              </a:rPr>
              <a:t>www.sarsev.cl</a:t>
            </a:r>
            <a:endParaRPr b="0" lang="en-US" sz="40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34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5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6" name="21 Conector recto"/>
          <p:cNvSpPr/>
          <p:nvPr/>
        </p:nvSpPr>
        <p:spPr>
          <a:xfrm>
            <a:off x="357120" y="107172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pic>
        <p:nvPicPr>
          <p:cNvPr id="137" name="3 Marcador de contenido" descr="SARSEV página.JPG"/>
          <p:cNvPicPr/>
          <p:nvPr/>
        </p:nvPicPr>
        <p:blipFill>
          <a:blip r:embed="rId2"/>
          <a:stretch/>
        </p:blipFill>
        <p:spPr>
          <a:xfrm>
            <a:off x="500040" y="1143000"/>
            <a:ext cx="8094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643040" y="-428760"/>
            <a:ext cx="5562720" cy="72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81439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55a4"/>
                </a:solidFill>
                <a:latin typeface="Calibri"/>
              </a:rPr>
              <a:t>“</a:t>
            </a:r>
            <a:r>
              <a:rPr b="1" i="1" lang="es-CL" sz="3200" spc="-1" strike="noStrike">
                <a:solidFill>
                  <a:srgbClr val="0055a4"/>
                </a:solidFill>
                <a:latin typeface="Calibri"/>
              </a:rPr>
              <a:t>AL SER PARTE DE SARSEV PROMOVERÁS LA SEGURIDAD OPERACIONAL DEL SAN, OPTIMIZARÁS TU DESEMPEÑO LABORAL Y MEJORARÁS TU CALIDAD DE VIDA” </a:t>
            </a: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5a4"/>
              </a:solidFill>
              <a:latin typeface="Calibri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55a4"/>
                </a:solidFill>
                <a:latin typeface="Calibri"/>
              </a:rPr>
              <a:t>Para mayor información respecto al programa te invitamos a visitar la página </a:t>
            </a:r>
            <a:r>
              <a:rPr b="0" lang="es-CL" sz="2400" spc="-1" strike="noStrike" u="sng">
                <a:solidFill>
                  <a:srgbClr val="40a4ff"/>
                </a:solidFill>
                <a:uFillTx/>
                <a:latin typeface="Calibri"/>
                <a:hlinkClick r:id="rId1"/>
              </a:rPr>
              <a:t>www.sarsev.cl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41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42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43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555840" y="1916280"/>
            <a:ext cx="79653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Para mayor información respecto al programa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 </a:t>
            </a:r>
            <a:r>
              <a:rPr b="1" i="1" lang="es-CL" sz="2800" spc="-1" strike="noStrike">
                <a:solidFill>
                  <a:srgbClr val="0055a4"/>
                </a:solidFill>
                <a:latin typeface="Arial"/>
              </a:rPr>
              <a:t>te invitamos a visitar la página </a:t>
            </a:r>
            <a:r>
              <a:rPr b="0" lang="es-CL" sz="2800" spc="-1" strike="noStrike" u="sng">
                <a:solidFill>
                  <a:srgbClr val="40a4ff"/>
                </a:solidFill>
                <a:uFillTx/>
                <a:latin typeface="Arial"/>
                <a:hlinkClick r:id="rId1"/>
              </a:rPr>
              <a:t>www.sarsev.cl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3429000"/>
            <a:ext cx="828036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Correo electrónico : </a:t>
            </a:r>
            <a:r>
              <a:rPr b="0" lang="en-US" sz="2800" spc="-1" strike="noStrike" u="sng">
                <a:solidFill>
                  <a:srgbClr val="40a4ff"/>
                </a:solidFill>
                <a:uFillTx/>
                <a:latin typeface="Arial"/>
                <a:hlinkClick r:id="rId3"/>
              </a:rPr>
              <a:t>contacto@sarsev.cl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Teléfonos : 562 – 4392766 ; 562 -4392485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55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Dirección : Lorena 1212 , Providencia , RM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55a4"/>
                </a:solidFill>
                <a:latin typeface="Arial"/>
              </a:rPr>
              <a:t>Santiago Chile 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55a4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9160" y="285480"/>
            <a:ext cx="35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440" y="1143000"/>
            <a:ext cx="7283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MARCO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DEFINICIÓN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CARACTERÍSTICAS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5a4"/>
                </a:solidFill>
                <a:latin typeface="Calibri"/>
              </a:rPr>
              <a:t>PROCESO</a:t>
            </a: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6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54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55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29200" y="285480"/>
            <a:ext cx="350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MARCO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114264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Manual de Gestión de la Seguridad Operacional OACI (Doc. 9859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Protocolo DGAC - Círculo de Pilotos de Chile, 2006.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Compromiso en USOAP (Mayo 2008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55a4"/>
                </a:solidFill>
                <a:latin typeface="Calibri"/>
              </a:rPr>
              <a:t>Plan Estratégico de la DGAC 2008 – 2012</a:t>
            </a: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, Anexos “G” “Política de Seguridad Operacional” y “J” “Política de Riesgos” (Resolución Exenta Nº 0972, Mayo 2009). 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55a4"/>
                </a:solidFill>
                <a:latin typeface="Calibri"/>
              </a:rPr>
              <a:t>Programa de Seguridad Operacional del Estado</a:t>
            </a:r>
            <a:r>
              <a:rPr b="0" lang="es-CL" sz="2800" spc="-1" strike="noStrike">
                <a:solidFill>
                  <a:srgbClr val="0055a4"/>
                </a:solidFill>
                <a:latin typeface="Calibri"/>
              </a:rPr>
              <a:t> (SSP, State Safety Program) contempla la necesidad de implementar un Modelo de Gestión.</a:t>
            </a: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6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0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1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14880" y="28548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¿QUÉ ES SARSEV?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SARSEV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 es un programa de reporte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voluntario, anónimo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 y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no punitivo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de sucesos que ponen en riesgo la seguridad operacional, cuya información se utiliza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sólo con fines de prevención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,</a:t>
            </a:r>
            <a:r>
              <a:rPr b="0" i="1" lang="en-US" sz="3000" spc="-1" strike="noStrike">
                <a:solidFill>
                  <a:srgbClr val="0055a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sin ánimo de buscar faltas o responsabilidades. </a:t>
            </a: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Se sustenta legalmente en la </a:t>
            </a:r>
            <a:r>
              <a:rPr b="1" lang="en-US" sz="3000" spc="-1" strike="noStrike">
                <a:solidFill>
                  <a:srgbClr val="0055a4"/>
                </a:solidFill>
                <a:latin typeface="Calibri"/>
              </a:rPr>
              <a:t>DAN 13 01 </a:t>
            </a:r>
            <a:r>
              <a:rPr b="0" lang="en-US" sz="3000" spc="-1" strike="noStrike">
                <a:solidFill>
                  <a:srgbClr val="0055a4"/>
                </a:solidFill>
                <a:latin typeface="Calibri"/>
              </a:rPr>
              <a:t>(Normativa en Estudio).</a:t>
            </a: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65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67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00680" y="28548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5a4"/>
                </a:solidFill>
                <a:latin typeface="Calibri"/>
              </a:rPr>
              <a:t>¿QUÉ ES SARSEV? (2)</a:t>
            </a:r>
            <a:endParaRPr b="0" lang="en-US" sz="40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00008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La información obtenida a través de SARSEV permitirá: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Identificar peligros y definir un mapa de riesgos operacionale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Extraer tendencias e indicadores de seguridad operacional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Sugerir a la Autoridad Aeronáutica medidas preventiva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Dar apoyo a investigaciones y estudios en materia de aviación, específicamente en la investigación de factores humanos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Promover la participación de los usuarios en el proceso de mejora de la seguridad operacional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55a4"/>
                </a:solidFill>
                <a:latin typeface="Calibri"/>
              </a:rPr>
              <a:t>Entregar retroalimentación a los usuarios a través de publicaciones periódicas y la divulgación de errores humanos y condiciones inseguras del sistema.</a:t>
            </a: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7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2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3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14840" y="285840"/>
            <a:ext cx="5643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CARACTERÍSTICAS</a:t>
            </a:r>
            <a:r>
              <a:rPr b="0" lang="en-US" sz="5400" spc="-1" strike="noStrike">
                <a:solidFill>
                  <a:srgbClr val="0055a4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Voluntario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Anónimo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No punitiv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“Just Culture” Tolera errores involuntarios y equivocaciones pero no transgresiones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Delimitad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No se reporta: delitos, infracciones, a</a:t>
            </a:r>
            <a:r>
              <a:rPr b="0" lang="es-ES" sz="2000" spc="-1" strike="noStrike">
                <a:solidFill>
                  <a:srgbClr val="0055a4"/>
                </a:solidFill>
                <a:latin typeface="Verdana"/>
              </a:rPr>
              <a:t>ccidentes, incidentes graves, conflictos laborales o gremiales, información falsa o malintencionada, disputas comerciales o legales, actos terroristas y fenómenos anómalos.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Inclusivo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T</a:t>
            </a:r>
            <a:r>
              <a:rPr b="0" lang="es-ES" sz="2000" spc="-1" strike="noStrike">
                <a:solidFill>
                  <a:srgbClr val="0055a4"/>
                </a:solidFill>
                <a:latin typeface="Verdana"/>
              </a:rPr>
              <a:t>oda persona que se desempeñe técnica o profesionalmente en el SAN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Proactivo. 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Detecta condiciones latentes (cadena de errores)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Confiable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55a4"/>
                </a:solidFill>
                <a:latin typeface="Verdana"/>
              </a:rPr>
              <a:t>Accesible.</a:t>
            </a:r>
            <a:r>
              <a:rPr b="0" lang="es-CL" sz="2000" spc="-1" strike="noStrike">
                <a:solidFill>
                  <a:srgbClr val="0055a4"/>
                </a:solidFill>
                <a:latin typeface="Verdana"/>
              </a:rPr>
              <a:t> Facilidad de notificación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77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8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79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5 Marcador de contenido" descr="iceberg_pinguinos_personaje.jpg"/>
          <p:cNvPicPr/>
          <p:nvPr/>
        </p:nvPicPr>
        <p:blipFill>
          <a:blip r:embed="rId1"/>
          <a:stretch/>
        </p:blipFill>
        <p:spPr>
          <a:xfrm>
            <a:off x="857160" y="1143000"/>
            <a:ext cx="4071960" cy="5232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</p:pic>
      <p:sp>
        <p:nvSpPr>
          <p:cNvPr id="81" name=""/>
          <p:cNvSpPr txBox="1"/>
          <p:nvPr/>
        </p:nvSpPr>
        <p:spPr>
          <a:xfrm>
            <a:off x="5572080" y="1071720"/>
            <a:ext cx="2928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gestión de la seguridad es un esfuerzo desperdiciado si la identificación de los peligros se limita solamente a aquellos raros eventos donde hay lesiones serias o daños significativos. </a:t>
            </a:r>
            <a:endParaRPr b="0" lang="en-US" sz="2000" spc="-1" strike="noStrike">
              <a:solidFill>
                <a:srgbClr val="0055a4"/>
              </a:solidFill>
              <a:latin typeface="Calibri"/>
            </a:endParaRPr>
          </a:p>
        </p:txBody>
      </p:sp>
      <p:grpSp>
        <p:nvGrpSpPr>
          <p:cNvPr id="82" name="Group 77"/>
          <p:cNvGrpSpPr/>
          <p:nvPr/>
        </p:nvGrpSpPr>
        <p:grpSpPr>
          <a:xfrm>
            <a:off x="1071720" y="2000160"/>
            <a:ext cx="5625720" cy="4438800"/>
            <a:chOff x="1071720" y="2000160"/>
            <a:chExt cx="5625720" cy="4438800"/>
          </a:xfrm>
        </p:grpSpPr>
        <p:grpSp>
          <p:nvGrpSpPr>
            <p:cNvPr id="83" name="Group 72"/>
            <p:cNvGrpSpPr/>
            <p:nvPr/>
          </p:nvGrpSpPr>
          <p:grpSpPr>
            <a:xfrm>
              <a:off x="1071720" y="2000160"/>
              <a:ext cx="4216320" cy="3511440"/>
              <a:chOff x="1071720" y="2000160"/>
              <a:chExt cx="4216320" cy="3511440"/>
            </a:xfrm>
          </p:grpSpPr>
          <p:sp>
            <p:nvSpPr>
              <p:cNvPr id="84" name="Line 5"/>
              <p:cNvSpPr/>
              <p:nvPr/>
            </p:nvSpPr>
            <p:spPr>
              <a:xfrm>
                <a:off x="1071720" y="2571480"/>
                <a:ext cx="3967200" cy="3780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5" name="Text Box 6"/>
              <p:cNvSpPr/>
              <p:nvPr/>
            </p:nvSpPr>
            <p:spPr>
              <a:xfrm>
                <a:off x="2625120" y="20001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 – 5</a:t>
                </a:r>
                <a:endParaRPr b="0" lang="en-US" sz="24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6" name="Line 8"/>
              <p:cNvSpPr/>
              <p:nvPr/>
            </p:nvSpPr>
            <p:spPr>
              <a:xfrm flipV="1">
                <a:off x="1071720" y="3428640"/>
                <a:ext cx="4216320" cy="4572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7" name="Text Box 9"/>
              <p:cNvSpPr/>
              <p:nvPr/>
            </p:nvSpPr>
            <p:spPr>
              <a:xfrm>
                <a:off x="2363400" y="3000240"/>
                <a:ext cx="106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30 – 1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8" name="Text Box 10"/>
              <p:cNvSpPr/>
              <p:nvPr/>
            </p:nvSpPr>
            <p:spPr>
              <a:xfrm>
                <a:off x="2014560" y="2643120"/>
                <a:ext cx="170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Incidentes serio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89" name="Line 11"/>
              <p:cNvSpPr/>
              <p:nvPr/>
            </p:nvSpPr>
            <p:spPr>
              <a:xfrm>
                <a:off x="1143000" y="4500720"/>
                <a:ext cx="3942000" cy="0"/>
              </a:xfrm>
              <a:prstGeom prst="line">
                <a:avLst/>
              </a:prstGeom>
              <a:ln w="38160">
                <a:solidFill>
                  <a:srgbClr val="0055a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0" name="Text Box 12"/>
              <p:cNvSpPr/>
              <p:nvPr/>
            </p:nvSpPr>
            <p:spPr>
              <a:xfrm>
                <a:off x="2314800" y="4071960"/>
                <a:ext cx="133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100 – 10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2437920" y="3571560"/>
                <a:ext cx="110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Incidente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2183040" y="5143320"/>
                <a:ext cx="14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Black"/>
                    <a:ea typeface="Arial"/>
                  </a:rPr>
                  <a:t>1000 – 4000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3" name="Text Box 15"/>
              <p:cNvSpPr/>
              <p:nvPr/>
            </p:nvSpPr>
            <p:spPr>
              <a:xfrm>
                <a:off x="1944360" y="4714920"/>
                <a:ext cx="205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55a4"/>
                    </a:solidFill>
                    <a:latin typeface="Arial Narrow"/>
                    <a:ea typeface="Arial"/>
                  </a:rPr>
                  <a:t>Condiciones latentes</a:t>
                </a: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75"/>
            <p:cNvGrpSpPr/>
            <p:nvPr/>
          </p:nvGrpSpPr>
          <p:grpSpPr>
            <a:xfrm>
              <a:off x="1500120" y="4571640"/>
              <a:ext cx="5197320" cy="1867320"/>
              <a:chOff x="1500120" y="4571640"/>
              <a:chExt cx="5197320" cy="1867320"/>
            </a:xfrm>
          </p:grpSpPr>
          <p:sp>
            <p:nvSpPr>
              <p:cNvPr id="95" name="Oval 155"/>
              <p:cNvSpPr/>
              <p:nvPr/>
            </p:nvSpPr>
            <p:spPr>
              <a:xfrm>
                <a:off x="1500120" y="4571640"/>
                <a:ext cx="3078360" cy="1071720"/>
              </a:xfrm>
              <a:prstGeom prst="ellipse">
                <a:avLst/>
              </a:prstGeom>
              <a:noFill/>
              <a:ln w="38160">
                <a:solidFill>
                  <a:srgbClr val="ffe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6" name="Text Box 217"/>
              <p:cNvSpPr/>
              <p:nvPr/>
            </p:nvSpPr>
            <p:spPr>
              <a:xfrm>
                <a:off x="5218200" y="5857560"/>
                <a:ext cx="1479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55a4"/>
                    </a:solidFill>
                    <a:latin typeface="Calibri"/>
                    <a:ea typeface="Arial"/>
                  </a:rPr>
                  <a:t>SARSEV</a:t>
                </a:r>
                <a:endParaRPr b="0" lang="en-US" sz="32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  <p:sp>
            <p:nvSpPr>
              <p:cNvPr id="97" name="Line 218"/>
              <p:cNvSpPr/>
              <p:nvPr/>
            </p:nvSpPr>
            <p:spPr>
              <a:xfrm flipH="1" flipV="1">
                <a:off x="3786480" y="5571360"/>
                <a:ext cx="1357200" cy="571320"/>
              </a:xfrm>
              <a:prstGeom prst="line">
                <a:avLst/>
              </a:prstGeom>
              <a:ln w="57240">
                <a:solidFill>
                  <a:srgbClr val="ffe8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5a4"/>
                  </a:solidFill>
                  <a:latin typeface="Arial"/>
                </a:endParaRPr>
              </a:p>
            </p:txBody>
          </p:sp>
        </p:grpSp>
      </p:grpSp>
      <p:sp>
        <p:nvSpPr>
          <p:cNvPr id="98" name="Text Box 7"/>
          <p:cNvSpPr/>
          <p:nvPr/>
        </p:nvSpPr>
        <p:spPr>
          <a:xfrm>
            <a:off x="2259720" y="14842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Accidentes</a:t>
            </a:r>
            <a:endParaRPr b="0" lang="en-US" sz="2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6920" y="6380280"/>
            <a:ext cx="169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55a4"/>
                </a:solidFill>
                <a:latin typeface="Arial"/>
              </a:rPr>
              <a:t>Fuente : Curso SMS , OACI 2009</a:t>
            </a:r>
            <a:endParaRPr b="0" lang="en-US" sz="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276720" y="76320"/>
            <a:ext cx="5643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ARACTERÍSTICA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14960" y="49968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107136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55a4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55a4"/>
                </a:solidFill>
                <a:latin typeface="Verdana"/>
              </a:rPr>
              <a:t>Equipo SARSEV</a:t>
            </a:r>
            <a:r>
              <a:rPr b="0" lang="es-ES" sz="2400" spc="-1" strike="noStrike">
                <a:solidFill>
                  <a:srgbClr val="0055a4"/>
                </a:solidFill>
                <a:latin typeface="Verdana"/>
              </a:rPr>
              <a:t>: </a:t>
            </a:r>
            <a:r>
              <a:rPr b="0" lang="es-ES" sz="2400" spc="-1" strike="noStrike" u="sng">
                <a:solidFill>
                  <a:srgbClr val="0055a4"/>
                </a:solidFill>
                <a:uFillTx/>
                <a:latin typeface="Calibri"/>
              </a:rPr>
              <a:t>g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rupo multidisciplinario de profesionales que se encarga de recibir, analizar y presentar al Comité SARSEV informes de los sucesos reportados, administrar la Base de Datos SARSEV y dar a conocer las conclusiones de sus análisis.</a:t>
            </a:r>
            <a:r>
              <a:rPr b="1" lang="es-ES" sz="2400" spc="-1" strike="noStrike" u="sng">
                <a:solidFill>
                  <a:srgbClr val="0055a4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55a4"/>
                </a:solidFill>
                <a:latin typeface="Verdana"/>
              </a:rPr>
              <a:t> </a:t>
            </a:r>
            <a:r>
              <a:rPr b="1" lang="es-MX" sz="2400" spc="-1" strike="noStrike">
                <a:solidFill>
                  <a:srgbClr val="0055a4"/>
                </a:solidFill>
                <a:latin typeface="Verdana"/>
              </a:rPr>
              <a:t>Comité SARSEV</a:t>
            </a:r>
            <a:r>
              <a:rPr b="0" lang="es-MX" sz="2400" spc="-1" strike="noStrike">
                <a:solidFill>
                  <a:srgbClr val="0055a4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equipo conformado por representantes de diferentes usuarios del sistema aeronáutico nacional y que se reúne trimestralmente para</a:t>
            </a:r>
            <a:r>
              <a:rPr b="1" lang="es-ES" sz="2400" spc="-1" strike="noStrike">
                <a:solidFill>
                  <a:srgbClr val="0055a4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55a4"/>
                </a:solidFill>
                <a:latin typeface="Calibri"/>
              </a:rPr>
              <a:t>revisar y emitir opinión sobre los análisis e informes finales presentados por el Equipo SARSEV y, de acuerdo con ellos, sugerir medidas preventivas. </a:t>
            </a: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04" name="5 Conector recto"/>
          <p:cNvSpPr/>
          <p:nvPr/>
        </p:nvSpPr>
        <p:spPr>
          <a:xfrm>
            <a:off x="500040" y="600084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5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06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3680" y="49968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5a4"/>
                </a:solidFill>
                <a:latin typeface="Calibri"/>
              </a:rPr>
              <a:t>ESTRUCTURA</a:t>
            </a:r>
            <a:endParaRPr b="0" lang="en-US" sz="4400" spc="-1" strike="noStrike">
              <a:solidFill>
                <a:srgbClr val="0055a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5a4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306520" cy="1000080"/>
          </a:xfrm>
          <a:prstGeom prst="rect">
            <a:avLst/>
          </a:prstGeom>
          <a:ln w="0">
            <a:noFill/>
          </a:ln>
        </p:spPr>
      </p:pic>
      <p:sp>
        <p:nvSpPr>
          <p:cNvPr id="110" name="5 Conector recto"/>
          <p:cNvSpPr/>
          <p:nvPr/>
        </p:nvSpPr>
        <p:spPr>
          <a:xfrm>
            <a:off x="500040" y="5929200"/>
            <a:ext cx="80726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500040" y="607212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Lorena 1212 Providencia Santiago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Fono 439 2766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55a4"/>
                </a:solidFill>
                <a:latin typeface="Calibri"/>
              </a:rPr>
              <a:t>       www.sarsev.cl </a:t>
            </a:r>
            <a:endParaRPr b="0" lang="en-US" sz="12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2" name="21 Conector recto"/>
          <p:cNvSpPr/>
          <p:nvPr/>
        </p:nvSpPr>
        <p:spPr>
          <a:xfrm>
            <a:off x="357120" y="1143000"/>
            <a:ext cx="8286840" cy="0"/>
          </a:xfrm>
          <a:prstGeom prst="line">
            <a:avLst/>
          </a:prstGeom>
          <a:ln w="28440">
            <a:solidFill>
              <a:srgbClr val="0063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997360"/>
            <a:ext cx="1871640" cy="914400"/>
          </a:xfrm>
          <a:prstGeom prst="roundRect">
            <a:avLst>
              <a:gd name="adj" fmla="val 16667"/>
            </a:avLst>
          </a:prstGeom>
          <a:solidFill>
            <a:srgbClr val="85c5ff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GAC</a:t>
            </a:r>
            <a:endParaRPr b="0" lang="en-US" sz="2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68640"/>
            <a:ext cx="1728720" cy="77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ARSEV</a:t>
            </a:r>
            <a:endParaRPr b="0" lang="en-US" sz="2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2720" y="112536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erolínea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32720" y="170028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OP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285264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Fedach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27664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írculo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Piloto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00536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lubes 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éreos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342900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hhel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25132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653000"/>
            <a:ext cx="1224000" cy="554040"/>
          </a:xfrm>
          <a:prstGeom prst="roundRect">
            <a:avLst>
              <a:gd name="adj" fmla="val 16667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legio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4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3357720"/>
            <a:ext cx="976320" cy="269640"/>
          </a:xfrm>
          <a:prstGeom prst="rightArrow">
            <a:avLst>
              <a:gd name="adj1" fmla="val 50000"/>
              <a:gd name="adj2" fmla="val 90521"/>
            </a:avLst>
          </a:prstGeom>
          <a:solidFill>
            <a:srgbClr val="0065c0"/>
          </a:solidFill>
          <a:ln w="9360">
            <a:solidFill>
              <a:srgbClr val="00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003640" y="1484280"/>
            <a:ext cx="1656000" cy="194472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003640" y="1916280"/>
            <a:ext cx="1656000" cy="151272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03640" y="2565000"/>
            <a:ext cx="1656000" cy="863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3141720"/>
            <a:ext cx="1656000" cy="28728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429000"/>
            <a:ext cx="1656000" cy="21600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3429000"/>
            <a:ext cx="1656000" cy="863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429000"/>
            <a:ext cx="1656000" cy="136836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1656000" cy="2087640"/>
          </a:xfrm>
          <a:prstGeom prst="line">
            <a:avLst/>
          </a:prstGeom>
          <a:ln w="9360">
            <a:solidFill>
              <a:srgbClr val="0055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5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27:03Z</dcterms:created>
  <dc:creator>Valeria Letelier</dc:creator>
  <dc:description/>
  <dc:language>en-US</dc:language>
  <cp:lastModifiedBy>mmorchio</cp:lastModifiedBy>
  <dcterms:modified xsi:type="dcterms:W3CDTF">2010-05-20T20:03:30Z</dcterms:modified>
  <cp:revision>27</cp:revision>
  <dc:subject/>
  <dc:title>Sistema Anónimo de Reportes de Seguridad en Vuelo (SARSEV)</dc:title>
</cp:coreProperties>
</file>